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6BC-137D-416C-A7CD-996C85F6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F58-A2D4-4158-B3B7-2F293C80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B91-DD38-4665-A2D0-B608A228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EE2-EFC5-412D-90B2-E40DBBAB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862-AFF1-43B9-9DF9-8B2C6405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09C-3F9B-477B-BB75-E473F022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3D4-0345-40C7-BBB8-6AB0CEBD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A73-5F07-4AD7-9AE7-9A5FA799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C33-7793-454D-811B-3AF4CD85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452-7F9D-4B4B-BAE5-078D85AD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22D-28A0-4E30-ABC3-4D89A5AC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7E0-7E25-4F96-BB38-CCA4DBE9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37CF-A95F-4E5D-AAD1-9E17F3001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9999"/>
                </a:solidFill>
                <a:latin typeface="Arial"/>
              </a:rPr>
              <a:t>Me llamo _______    Clase 6nh(601)</a:t>
            </a:r>
            <a:br>
              <a:rPr sz="3900"/>
            </a:br>
            <a:r>
              <a:rPr b="0" lang="en-US" sz="3900" spc="-1" strike="noStrike">
                <a:solidFill>
                  <a:srgbClr val="009999"/>
                </a:solidFill>
                <a:latin typeface="Arial"/>
              </a:rPr>
              <a:t>La fecha es el 11 de febrero del 201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5: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la prueba del próximo lu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31748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 flipH="1">
            <a:off x="28195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H="1" flipV="1">
            <a:off x="2971800" y="4724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724280" y="5486400"/>
            <a:ext cx="22860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33526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V="1">
            <a:off x="5715000" y="4114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257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510552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2590560" y="6248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41148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62485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 flipV="1">
            <a:off x="5181480" y="2666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781680" y="554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3048120" y="53942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6477120" y="3886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2590920" y="4479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6705720" y="6232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962520" y="2286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2286000" y="6004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9907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7086600" y="5486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1600200" y="5334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6781680" y="38703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121932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7010280" y="6232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4267080" y="2286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jug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2"/>
          <p:cNvSpPr/>
          <p:nvPr/>
        </p:nvSpPr>
        <p:spPr>
          <a:xfrm>
            <a:off x="990720" y="5943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b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Y IT AGAI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823840" y="27432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461240" y="1905120"/>
            <a:ext cx="1280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477800" y="2362320"/>
            <a:ext cx="12625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477440" y="2819520"/>
            <a:ext cx="12643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93280" y="19051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192920" y="23623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031360" y="2743200"/>
            <a:ext cx="1279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668680" y="2819520"/>
            <a:ext cx="13647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447920" y="32767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1447920" y="32767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2823840" y="49528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1524240" y="4114800"/>
            <a:ext cx="133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1526400" y="4572000"/>
            <a:ext cx="13143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524600" y="5029200"/>
            <a:ext cx="13161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4345920" y="41148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4345200" y="4572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108040" y="4952880"/>
            <a:ext cx="1245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2821320" y="5029200"/>
            <a:ext cx="1331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1523880" y="5394240"/>
            <a:ext cx="2667240" cy="1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1523880" y="5410080"/>
            <a:ext cx="5335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e mor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280" y="914400"/>
          <a:ext cx="6934320" cy="2590920"/>
        </p:xfrm>
        <a:graphic>
          <a:graphicData uri="http://schemas.openxmlformats.org/drawingml/2006/table">
            <a:tbl>
              <a:tblPr/>
              <a:tblGrid>
                <a:gridCol w="1206720"/>
                <a:gridCol w="1807920"/>
                <a:gridCol w="2065320"/>
                <a:gridCol w="1854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ue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27"/>
          <p:cNvSpPr/>
          <p:nvPr/>
        </p:nvSpPr>
        <p:spPr>
          <a:xfrm>
            <a:off x="1523880" y="161460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1523880" y="230040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1523880" y="2909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5105520" y="1614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e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5334120" y="22096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er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5334120" y="2909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1523880" y="2071800"/>
            <a:ext cx="1600200" cy="36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1523880" y="2773440"/>
            <a:ext cx="1600200" cy="27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3048120" y="2909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1981080" y="3413160"/>
            <a:ext cx="266724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1523880" y="3429000"/>
            <a:ext cx="5335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800"/>
                <a:gridCol w="181908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62"/>
          <p:cNvSpPr/>
          <p:nvPr/>
        </p:nvSpPr>
        <p:spPr>
          <a:xfrm>
            <a:off x="2895480" y="44956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3"/>
          <p:cNvSpPr/>
          <p:nvPr/>
        </p:nvSpPr>
        <p:spPr>
          <a:xfrm>
            <a:off x="2895480" y="4952880"/>
            <a:ext cx="16002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4"/>
          <p:cNvSpPr/>
          <p:nvPr/>
        </p:nvSpPr>
        <p:spPr>
          <a:xfrm>
            <a:off x="2895480" y="5195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2895480" y="5668920"/>
            <a:ext cx="1600200" cy="27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6"/>
          <p:cNvSpPr/>
          <p:nvPr/>
        </p:nvSpPr>
        <p:spPr>
          <a:xfrm>
            <a:off x="2895480" y="58672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7"/>
          <p:cNvSpPr/>
          <p:nvPr/>
        </p:nvSpPr>
        <p:spPr>
          <a:xfrm>
            <a:off x="6400800" y="4510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olv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8"/>
          <p:cNvSpPr/>
          <p:nvPr/>
        </p:nvSpPr>
        <p:spPr>
          <a:xfrm>
            <a:off x="6477120" y="51958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olv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9"/>
          <p:cNvSpPr/>
          <p:nvPr/>
        </p:nvSpPr>
        <p:spPr>
          <a:xfrm>
            <a:off x="6477120" y="58672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0"/>
          <p:cNvSpPr/>
          <p:nvPr/>
        </p:nvSpPr>
        <p:spPr>
          <a:xfrm>
            <a:off x="4495680" y="58672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1"/>
          <p:cNvSpPr/>
          <p:nvPr/>
        </p:nvSpPr>
        <p:spPr>
          <a:xfrm>
            <a:off x="3429000" y="638496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2"/>
          <p:cNvSpPr/>
          <p:nvPr/>
        </p:nvSpPr>
        <p:spPr>
          <a:xfrm>
            <a:off x="2895480" y="6400800"/>
            <a:ext cx="5335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160" y="2514240"/>
            <a:ext cx="2361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El equ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3429000" y="5335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3352680" y="25146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6095880" y="533520"/>
            <a:ext cx="2895840" cy="1314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248520" y="1905120"/>
            <a:ext cx="2590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port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9"/>
          <p:cNvSpPr/>
          <p:nvPr/>
        </p:nvSpPr>
        <p:spPr>
          <a:xfrm>
            <a:off x="457200" y="55627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por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5"/>
          <a:stretch/>
        </p:blipFill>
        <p:spPr>
          <a:xfrm>
            <a:off x="2743200" y="3505320"/>
            <a:ext cx="2724120" cy="21542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2743200" y="57150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espec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6668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espec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"/>
          <p:cNvPicPr/>
          <p:nvPr/>
        </p:nvPicPr>
        <p:blipFill>
          <a:blip r:embed="rId6"/>
          <a:stretch/>
        </p:blipFill>
        <p:spPr>
          <a:xfrm>
            <a:off x="5991120" y="3581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4"/>
          <p:cNvSpPr/>
          <p:nvPr/>
        </p:nvSpPr>
        <p:spPr>
          <a:xfrm>
            <a:off x="5562720" y="55627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tablero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5562720" y="60199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mar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H="1" flipV="1">
            <a:off x="8153280" y="3352680"/>
            <a:ext cx="7632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7391520" y="28954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t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paso del Proposito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Juegan ustedes (al) futb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Juegan con unos amigos o con el equipo de su escue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Vuelven ustedes al campo cuando empieza el segundo tiem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ueden ustedes usar las manos cuando juegan (al) futb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ienen ustedes que lanzar el balon con los pies o el braz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uermen ustedes bien despues de jugar (al) futb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78880" y="1752480"/>
            <a:ext cx="52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i, (no, no) jugamos al fut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40360" y="24526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ugamos con unos am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4640" y="349416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i, volvemos al campo cuando empieza el segundo tiemp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33640" y="4546440"/>
            <a:ext cx="873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ff"/>
                </a:solidFill>
                <a:latin typeface="Arial"/>
              </a:rPr>
              <a:t>No, no podemos usar las manos cuando jugamos futbo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756720" y="5576760"/>
            <a:ext cx="73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enemos que lanzar el balón con los p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87360" y="6324480"/>
            <a:ext cx="80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i, dormimos bien después de jugar (al) fut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jercicios 11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Juegas al bingo en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uedes hablar ingles en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e lengua puedes o tienes que hablar en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uermes en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evuelve el/la profesor(a) los exámenes pro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34360" y="1843200"/>
            <a:ext cx="86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i, (no, no) juego al Bingo en la clase de españ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4640" y="2770200"/>
            <a:ext cx="909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ff"/>
                </a:solidFill>
                <a:latin typeface="Arial"/>
              </a:rPr>
              <a:t>Si, (no, no) puedo hablar ingles en la clase de españ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97000" y="3976560"/>
            <a:ext cx="79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uedo hablar español en la clase de españ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10680" y="4890960"/>
            <a:ext cx="66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No, no duermo en la clase de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59120" y="5867280"/>
            <a:ext cx="907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i (no, el/la profesor(a) (no) devuelven los exám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o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Historieta 1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 (jugar) mucho al futbol y Diana ________ (jugar) mucho también, pero ahora ella no ________( pod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Diana, ¿por qué no _________ (poder) jugar ah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No _______ (poder) porque _______(querer) ir a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Diana _________(querer) ir a casa porque ella _______(tener) un amigo que ________(volver) hoy de Puerto Rico y ella _______(querer) estar en casa. Pero mañana todos nosotros __________(ir ) a jugar. Y el amigo puertorriqueño de Diana _________(poder) jugar también. Su amigo __________(jugar)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0280" y="12700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j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068120" y="1676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ju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673640" y="20574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u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264920" y="24382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u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449360" y="320040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u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406480" y="3200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qu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516400" y="3886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92160" y="43434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t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788800" y="42670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268880" y="4648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6855840" y="49528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v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992880" y="57150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u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992160" y="60958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ju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orkbook;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jercicio 7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y nosotros _____________ a jugar a las dos.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empez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___________ ganar.  No ___________ per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quer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sotros ___________ el partido de hoy, _________ todo.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(pe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jercicio 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17840" y="1447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ezamos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927800" y="198108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que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489640" y="190512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queremos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365560" y="281952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perdemos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6680" y="275760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erd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37480" y="4129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Hoy yo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zo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a jugar a las 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0440" y="4876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Yo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ro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ga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414600" y="487692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No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ro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e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38560" y="5805360"/>
            <a:ext cx="69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i yo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rdo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el partido hoy,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rdo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to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 Tarea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ocho horas cada noch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dorm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llegar a la escuela a las ocho menos cuar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tomar el autobu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quer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(al) futbol despues de las cla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j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con el equipo de la escuela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j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a casa a las cinco y media o a las sei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vol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muy bien despues de jugar mucho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dorm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8880" y="144792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680480" y="1905120"/>
            <a:ext cx="12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679400" y="274320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451160" y="3214800"/>
            <a:ext cx="11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603440" y="4052880"/>
            <a:ext cx="11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526760" y="49672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603440" y="580536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9067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orkbook p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duermo ocho horas cada no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puedo llegar a las ocho menos cua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puedo tomar el autobú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juego (al) futbol después de l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juego con el equipo de la escu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vuelvo a casa a las cinco y media o a las s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duermo muy bien después de jugar mu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14400" y="189396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dormimos ocho horas cada noch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12960" y="259092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podemos llegar a las ocho menos cuar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914400" y="335268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podemos tomar el autobú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900720" y="411480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jugamos (al) futbol después de las cl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759600" y="4800600"/>
            <a:ext cx="70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jugamos con el equipo de la escu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79080" y="5486400"/>
            <a:ext cx="87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volvemos a casa a las cinco y media o a las se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55760" y="63244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dormimos muy bien después de jugar mu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 de la “Bot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-changing verbs are also known as “BOOT”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why; conjugate the ver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743560" y="3962520"/>
            <a:ext cx="16041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745720" y="4419720"/>
            <a:ext cx="1585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755080" y="4876920"/>
            <a:ext cx="15872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652720" y="39625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ez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652360" y="44197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ez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472440" y="4876920"/>
            <a:ext cx="160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4262040" y="4876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4279680" y="4876920"/>
            <a:ext cx="16880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2819520" y="53341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276720" y="53341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/>
          <p:cNvSpPr/>
          <p:nvPr/>
        </p:nvSpPr>
        <p:spPr>
          <a:xfrm>
            <a:off x="2286000" y="3581280"/>
            <a:ext cx="3809880" cy="2667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03120" y="33526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…..it’s a BOO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762480" y="624852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ONLY CHANGE WHAT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SID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HE BOO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4:04:01Z</dcterms:created>
  <dc:creator>Helen Zumaeta</dc:creator>
  <dc:description/>
  <dc:language>en-US</dc:language>
  <cp:lastModifiedBy>Helen Zumaeta</cp:lastModifiedBy>
  <dcterms:modified xsi:type="dcterms:W3CDTF">2013-02-11T17:47:03Z</dcterms:modified>
  <cp:revision>9</cp:revision>
  <dc:subject/>
  <dc:title>Me llamo _______      Clase 7IM La fecha es el 6 de enero del 2011</dc:title>
</cp:coreProperties>
</file>